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40509-C0ED-447D-931A-F0F218D70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15E81-76A2-45FF-B3C4-A76EB8513B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4B123-6CB5-43E0-921D-396809CC6C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D83D5-DBE1-45C7-9A9F-789B7A1C83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A6FBB-4DB8-49C9-AED1-D83E60FDB3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C38F6-E9E8-4655-9709-0A2BB0E39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F0150-5623-4838-AB7B-EE2757D11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2FCCF-8E1A-42B9-A428-A942F66C6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F982B-A76C-46C8-8FC9-006D779C0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46F8A-FF54-4C53-9FAD-46A340EAD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65235-4B66-4A95-922C-E79B168C3E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AF37D-75DD-412D-84E4-115BD7205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69A3-7CA8-4345-AF83-9DE30DDC5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71600" y="6172200"/>
            <a:ext cx="7086600" cy="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5562720"/>
            <a:ext cx="1197000" cy="82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BF Scheme Design Considerations</a:t>
            </a:r>
            <a:br>
              <a:rPr sz="4400"/>
            </a:b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tandard Sections 8 &amp; 9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er Failure Tu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S 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Tripping Action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est relays with built-in B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ata messaging among relays or auxiliary control devices on optical fiber communications li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echanical or electrical latching of output relays to hold trip circuits and block close circu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 on programmed scheme logic and/or station computer to keep track of trip and lockout topology of substation for multiple conditions, e.g. transformer fault with breaker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lockout actions must be cleared separat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war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lat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rip/lockout mapping – what happens when relay dc goes away and comes back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wiring; easier and safer to ver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901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Using Bus Tripping for BF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eaker on the bus fails for an adjacent zone fault, the bus must be stripp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 differential lockout switch or distributed tripping modules can be used to get bus breakers tripp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ed BF lockout switch on each breaker or equivalent to distinguish BF trip from bus fault, and to trip adjacent-zone or remote break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are of common failure points or shared dc between bus protection and BF prot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More recommendation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ascaded BF protection (initiating BF on a breaker that is tripped by another BF scheme) – 2 scheme malfunctions are more likely than 2 sequential breaker failures, and tear the power system a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F initiation for manual or SCADA trips – only for trips by fault-detecting rel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trip to minimize the impact of a false BFI with seal-in through maintenance error or battery g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tion – if BF Initiate comes from lockout switch or latched relay (bus or xfmr fault), it will be sustained until that zone lockout is reset. (watch when reenergizing; scheme desig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urrent Detector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directional overcurrent element monitors breaker cur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each breaker separately - do not use line or winding currents in a ring bus or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½ breaker 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y performance factor for traditional logic – fast dropout when fault cl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new control timer logic – dropout doesn’t matter; stable pickup time can be slower without delaying BF tripping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urrent Detector Setting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current detectors (50BF) – at least 2 phases, 3 is b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bove max. load if possible for false trip avoidance, bu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well below minimum phase fault current (50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sequence current detector c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ppl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hase current detectors (don’t forget 3-phase faul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urrent Detector Settings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nd current detector – residual connection or calculation (~ zero sequenc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is not a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well below minimum ground fault current (30-40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, set it at least below the most sensitive ground fault relay that may tr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low settings - watch for decaying transient in ct circu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66680" y="1523880"/>
            <a:ext cx="497160" cy="72828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02240" y="2438280"/>
            <a:ext cx="498600" cy="30204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44040" y="3849840"/>
            <a:ext cx="1836360" cy="154908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tio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adja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former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l 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sitivity 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ck bre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69200" y="5452920"/>
            <a:ext cx="5262480" cy="94212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on’t use 5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y itself, with or instead of 5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4456080"/>
            <a:ext cx="574560" cy="36324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6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55120" y="3662280"/>
            <a:ext cx="560880" cy="36324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2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93360" y="2511360"/>
            <a:ext cx="519840" cy="45468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76360" y="2871720"/>
            <a:ext cx="577800" cy="51552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24600" y="3443400"/>
            <a:ext cx="564120" cy="33228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4880" y="2333520"/>
            <a:ext cx="949680" cy="51552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Sensitive Fault Detecti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38480" y="1555920"/>
            <a:ext cx="885960" cy="10332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44560" y="1955880"/>
            <a:ext cx="968400" cy="24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7520" y="2298600"/>
            <a:ext cx="968040" cy="24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8640" y="1828800"/>
            <a:ext cx="713160" cy="51552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24120" y="2057400"/>
            <a:ext cx="40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36720" y="2400480"/>
            <a:ext cx="393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14360" y="2400480"/>
            <a:ext cx="40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9920" y="2057400"/>
            <a:ext cx="40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24120" y="1743120"/>
            <a:ext cx="40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38480" y="2705040"/>
            <a:ext cx="885960" cy="10335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11600" y="2119320"/>
            <a:ext cx="885960" cy="10335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24120" y="2922480"/>
            <a:ext cx="40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49680" y="3157560"/>
            <a:ext cx="40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36720" y="3357720"/>
            <a:ext cx="40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36720" y="3600360"/>
            <a:ext cx="406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3160" y="348624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21920" y="2819520"/>
            <a:ext cx="359640" cy="30204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21920" y="3048120"/>
            <a:ext cx="359640" cy="30204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2680" y="3260880"/>
            <a:ext cx="359640" cy="30204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33800" y="3503520"/>
            <a:ext cx="429840" cy="30204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I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19400" y="2022480"/>
            <a:ext cx="330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57560" y="3157560"/>
            <a:ext cx="330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2028960"/>
            <a:ext cx="0" cy="32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75080" y="2822400"/>
            <a:ext cx="0" cy="328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36920" y="2357280"/>
            <a:ext cx="254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75080" y="2822400"/>
            <a:ext cx="254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86600" y="2127240"/>
            <a:ext cx="885600" cy="10335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72320" y="2455920"/>
            <a:ext cx="936720" cy="4762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88840" y="2343240"/>
            <a:ext cx="713160" cy="51552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51880" y="3475080"/>
            <a:ext cx="782640" cy="43956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831080" y="3900600"/>
            <a:ext cx="634680" cy="845640"/>
            <a:chOff x="7831080" y="3900600"/>
            <a:chExt cx="634680" cy="845640"/>
          </a:xfrm>
        </p:grpSpPr>
        <p:sp>
          <p:nvSpPr>
            <p:cNvPr id="162" name=""/>
            <p:cNvSpPr/>
            <p:nvPr/>
          </p:nvSpPr>
          <p:spPr>
            <a:xfrm>
              <a:off x="7837200" y="4257360"/>
              <a:ext cx="615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831080" y="4393080"/>
              <a:ext cx="634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133480" y="3900600"/>
              <a:ext cx="2160" cy="347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8146080" y="4394160"/>
              <a:ext cx="1800" cy="352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>
            <a:off x="7805880" y="4151160"/>
            <a:ext cx="583920" cy="41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31800" y="4232160"/>
            <a:ext cx="804600" cy="39384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6B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62560" y="3406680"/>
            <a:ext cx="521280" cy="69876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59760" y="2928960"/>
            <a:ext cx="0" cy="55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18080" y="2571840"/>
            <a:ext cx="635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80120" y="2657520"/>
            <a:ext cx="59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823000" y="291456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35600" y="291456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556240" y="3608280"/>
            <a:ext cx="634680" cy="846000"/>
            <a:chOff x="5556240" y="3608280"/>
            <a:chExt cx="634680" cy="846000"/>
          </a:xfrm>
        </p:grpSpPr>
        <p:sp>
          <p:nvSpPr>
            <p:cNvPr id="175" name=""/>
            <p:cNvSpPr/>
            <p:nvPr/>
          </p:nvSpPr>
          <p:spPr>
            <a:xfrm>
              <a:off x="5562720" y="3965400"/>
              <a:ext cx="615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56240" y="4101120"/>
              <a:ext cx="634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5859000" y="3608280"/>
              <a:ext cx="1800" cy="34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5871600" y="4102200"/>
              <a:ext cx="1800" cy="352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568840" y="4436640"/>
            <a:ext cx="634680" cy="846360"/>
            <a:chOff x="5568840" y="4436640"/>
            <a:chExt cx="634680" cy="846360"/>
          </a:xfrm>
        </p:grpSpPr>
        <p:sp>
          <p:nvSpPr>
            <p:cNvPr id="180" name=""/>
            <p:cNvSpPr/>
            <p:nvPr/>
          </p:nvSpPr>
          <p:spPr>
            <a:xfrm>
              <a:off x="5574960" y="4793760"/>
              <a:ext cx="615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68840" y="4929840"/>
              <a:ext cx="634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5871600" y="4436640"/>
              <a:ext cx="1800" cy="34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5883480" y="4930560"/>
              <a:ext cx="1800" cy="35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562720" y="3429000"/>
            <a:ext cx="968400" cy="24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59320" y="5237280"/>
            <a:ext cx="536400" cy="33228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c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823000" y="1864800"/>
            <a:ext cx="0" cy="70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022360" y="1886040"/>
            <a:ext cx="800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349520" y="189396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349880" y="1279080"/>
            <a:ext cx="0" cy="614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749320" y="1285920"/>
            <a:ext cx="1600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49680" y="12859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48280" y="1779480"/>
            <a:ext cx="0" cy="22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12520" y="1370160"/>
            <a:ext cx="931320" cy="36324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l-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848000" y="4791240"/>
            <a:ext cx="524520" cy="36324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920880"/>
            <a:ext cx="7848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imer setting – Traditional Schem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2396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2590920"/>
            <a:ext cx="7543800" cy="342900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295280" y="3218040"/>
            <a:ext cx="7010640" cy="22874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margin – 3 to 10 cy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y within CFC time on bulk transmi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8028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F Timer setting – Control Timer Scheme with 50 pickup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328760" y="2620800"/>
            <a:ext cx="6838920" cy="26164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715000" y="1676520"/>
            <a:ext cx="2540160" cy="1557000"/>
          </a:xfrm>
          <a:prstGeom prst="rect">
            <a:avLst/>
          </a:prstGeom>
          <a:solidFill>
            <a:srgbClr val="ccecff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reset time is removed – get more margin or set shorter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711320" y="2819520"/>
            <a:ext cx="1003320" cy="1130040"/>
          </a:xfrm>
          <a:prstGeom prst="line">
            <a:avLst/>
          </a:prstGeom>
          <a:ln w="38160">
            <a:solidFill>
              <a:srgbClr val="ff5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610160" y="3924360"/>
            <a:ext cx="76320" cy="76320"/>
          </a:xfrm>
          <a:prstGeom prst="line">
            <a:avLst/>
          </a:prstGeom>
          <a:ln w="126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610160" y="3898800"/>
            <a:ext cx="164880" cy="165240"/>
          </a:xfrm>
          <a:prstGeom prst="line">
            <a:avLst/>
          </a:prstGeom>
          <a:ln w="126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660920" y="3949560"/>
            <a:ext cx="216000" cy="190800"/>
          </a:xfrm>
          <a:prstGeom prst="line">
            <a:avLst/>
          </a:prstGeom>
          <a:ln w="126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660560" y="3924360"/>
            <a:ext cx="152280" cy="139680"/>
          </a:xfrm>
          <a:prstGeom prst="line">
            <a:avLst/>
          </a:prstGeom>
          <a:ln w="126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787640" y="4000680"/>
            <a:ext cx="88920" cy="114120"/>
          </a:xfrm>
          <a:prstGeom prst="line">
            <a:avLst/>
          </a:prstGeom>
          <a:ln w="126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19640" y="4152960"/>
            <a:ext cx="0" cy="46980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63840" y="5359320"/>
            <a:ext cx="4559400" cy="825480"/>
          </a:xfrm>
          <a:prstGeom prst="rect">
            <a:avLst/>
          </a:prstGeom>
          <a:solidFill>
            <a:srgbClr val="ccecff"/>
          </a:solidFill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pickup time adds to 62 BF time here (set 62 low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876920" y="4483080"/>
            <a:ext cx="622080" cy="889200"/>
          </a:xfrm>
          <a:prstGeom prst="line">
            <a:avLst/>
          </a:prstGeom>
          <a:ln w="38160">
            <a:solidFill>
              <a:srgbClr val="ff5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timer setting not critical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set below reclosing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7938000" y="1905120"/>
            <a:ext cx="756000" cy="45468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48520" y="1363680"/>
            <a:ext cx="2187000" cy="45468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, BF           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2438280"/>
            <a:ext cx="1431720" cy="82044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b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bu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76520" y="2362320"/>
            <a:ext cx="1368360" cy="45468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123720" y="152280"/>
            <a:ext cx="58676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reaker and CT fault protectio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ults detected by line or bus relay, but not isolated by brea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F scheme must trip/transfer trip adjacent breakers to isolate the fault in BF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aratus frame-ground CT with 50 relay direct-trips 86BF - can speed up clearing to primary time - helpful but usually not essent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52920" y="1727280"/>
            <a:ext cx="498240" cy="258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52920" y="2219400"/>
            <a:ext cx="498240" cy="260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52920" y="2741760"/>
            <a:ext cx="498240" cy="258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06760" y="1838160"/>
            <a:ext cx="102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93800" y="2360520"/>
            <a:ext cx="1028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19360" y="2881440"/>
            <a:ext cx="1028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56200" y="1852560"/>
            <a:ext cx="4127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81400" y="2360520"/>
            <a:ext cx="4127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94000" y="2874960"/>
            <a:ext cx="4127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6774120" y="1760760"/>
            <a:ext cx="441720" cy="356760"/>
            <a:chOff x="6774120" y="1760760"/>
            <a:chExt cx="441720" cy="356760"/>
          </a:xfrm>
        </p:grpSpPr>
        <p:sp>
          <p:nvSpPr>
            <p:cNvPr id="229" name=""/>
            <p:cNvSpPr/>
            <p:nvPr/>
          </p:nvSpPr>
          <p:spPr>
            <a:xfrm rot="5400000">
              <a:off x="6699600" y="1835640"/>
              <a:ext cx="355680" cy="20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694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6944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6707160" y="1835640"/>
              <a:ext cx="356760" cy="20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582"/>
                  </a:moveTo>
                  <a:arcTo wR="10800" hR="10800" stAng="-69440" swAng="546944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582"/>
                  </a:moveTo>
                  <a:arcTo wR="10800" hR="10800" stAng="-69440" swAng="546944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5400000">
              <a:off x="6925680" y="1836000"/>
              <a:ext cx="355680" cy="20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694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6944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6200000">
              <a:off x="6933960" y="1835640"/>
              <a:ext cx="356760" cy="20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582"/>
                  </a:moveTo>
                  <a:arcTo wR="10800" hR="10800" stAng="-69440" swAng="546944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582"/>
                  </a:moveTo>
                  <a:arcTo wR="10800" hR="10800" stAng="-69440" swAng="546944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075360" y="1752480"/>
            <a:ext cx="441720" cy="357480"/>
            <a:chOff x="6075360" y="1752480"/>
            <a:chExt cx="441720" cy="357480"/>
          </a:xfrm>
        </p:grpSpPr>
        <p:sp>
          <p:nvSpPr>
            <p:cNvPr id="234" name=""/>
            <p:cNvSpPr/>
            <p:nvPr/>
          </p:nvSpPr>
          <p:spPr>
            <a:xfrm rot="5400000">
              <a:off x="6000120" y="1828440"/>
              <a:ext cx="356760" cy="20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694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6944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6200000">
              <a:off x="6009120" y="1826640"/>
              <a:ext cx="355680" cy="20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582"/>
                  </a:moveTo>
                  <a:arcTo wR="10800" hR="10800" stAng="-69440" swAng="546944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582"/>
                  </a:moveTo>
                  <a:arcTo wR="10800" hR="10800" stAng="-69440" swAng="546944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5400000">
              <a:off x="6226560" y="1828440"/>
              <a:ext cx="356760" cy="20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694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6944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6200000">
              <a:off x="6235560" y="1826640"/>
              <a:ext cx="355680" cy="20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582"/>
                  </a:moveTo>
                  <a:arcTo wR="10800" hR="10800" stAng="-69440" swAng="546944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582"/>
                  </a:moveTo>
                  <a:arcTo wR="10800" hR="10800" stAng="-69440" swAng="546944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126120" y="2289240"/>
            <a:ext cx="441720" cy="356400"/>
            <a:chOff x="6126120" y="2289240"/>
            <a:chExt cx="441720" cy="356400"/>
          </a:xfrm>
        </p:grpSpPr>
        <p:sp>
          <p:nvSpPr>
            <p:cNvPr id="239" name=""/>
            <p:cNvSpPr/>
            <p:nvPr/>
          </p:nvSpPr>
          <p:spPr>
            <a:xfrm rot="5400000">
              <a:off x="6051240" y="2364480"/>
              <a:ext cx="355680" cy="20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694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6944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6200000">
              <a:off x="6059880" y="2363040"/>
              <a:ext cx="355680" cy="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582"/>
                  </a:moveTo>
                  <a:arcTo wR="10800" hR="10800" stAng="-69440" swAng="546944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582"/>
                  </a:moveTo>
                  <a:arcTo wR="10800" hR="10800" stAng="-69440" swAng="546944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5400000">
              <a:off x="6278040" y="2364480"/>
              <a:ext cx="355680" cy="20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694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6944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200000">
              <a:off x="6286680" y="2363760"/>
              <a:ext cx="355680" cy="20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582"/>
                  </a:moveTo>
                  <a:arcTo wR="10800" hR="10800" stAng="-69440" swAng="546944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582"/>
                  </a:moveTo>
                  <a:arcTo wR="10800" hR="10800" stAng="-69440" swAng="546944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888600" y="2260800"/>
            <a:ext cx="441360" cy="356760"/>
            <a:chOff x="6888600" y="2260800"/>
            <a:chExt cx="441360" cy="356760"/>
          </a:xfrm>
        </p:grpSpPr>
        <p:sp>
          <p:nvSpPr>
            <p:cNvPr id="244" name=""/>
            <p:cNvSpPr/>
            <p:nvPr/>
          </p:nvSpPr>
          <p:spPr>
            <a:xfrm rot="5400000">
              <a:off x="6814080" y="2335680"/>
              <a:ext cx="355680" cy="20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694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6944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6200000">
              <a:off x="6822000" y="2336040"/>
              <a:ext cx="356760" cy="20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582"/>
                  </a:moveTo>
                  <a:arcTo wR="10800" hR="10800" stAng="-69440" swAng="546944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582"/>
                  </a:moveTo>
                  <a:arcTo wR="10800" hR="10800" stAng="-69440" swAng="546944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5400000">
              <a:off x="7040520" y="2335680"/>
              <a:ext cx="355680" cy="20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694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6944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6200000">
              <a:off x="7048080" y="2335680"/>
              <a:ext cx="356760" cy="20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582"/>
                  </a:moveTo>
                  <a:arcTo wR="10800" hR="10800" stAng="-69440" swAng="546944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582"/>
                  </a:moveTo>
                  <a:arcTo wR="10800" hR="10800" stAng="-69440" swAng="546944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176880" y="2789280"/>
            <a:ext cx="442080" cy="356400"/>
            <a:chOff x="6176880" y="2789280"/>
            <a:chExt cx="442080" cy="356400"/>
          </a:xfrm>
        </p:grpSpPr>
        <p:sp>
          <p:nvSpPr>
            <p:cNvPr id="249" name=""/>
            <p:cNvSpPr/>
            <p:nvPr/>
          </p:nvSpPr>
          <p:spPr>
            <a:xfrm rot="5400000">
              <a:off x="6102360" y="2864880"/>
              <a:ext cx="355320" cy="20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694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6944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6200000">
              <a:off x="6110640" y="2863800"/>
              <a:ext cx="355680" cy="20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582"/>
                  </a:moveTo>
                  <a:arcTo wR="10800" hR="10800" stAng="-69440" swAng="546944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582"/>
                  </a:moveTo>
                  <a:arcTo wR="10800" hR="10800" stAng="-69440" swAng="546944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6329520" y="2864160"/>
              <a:ext cx="355320" cy="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694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6944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200000">
              <a:off x="6337800" y="2863800"/>
              <a:ext cx="355680" cy="20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582"/>
                  </a:moveTo>
                  <a:arcTo wR="10800" hR="10800" stAng="-69440" swAng="546944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582"/>
                  </a:moveTo>
                  <a:arcTo wR="10800" hR="10800" stAng="-69440" swAng="546944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900840" y="2774880"/>
            <a:ext cx="441720" cy="356400"/>
            <a:chOff x="6900840" y="2774880"/>
            <a:chExt cx="441720" cy="356400"/>
          </a:xfrm>
        </p:grpSpPr>
        <p:sp>
          <p:nvSpPr>
            <p:cNvPr id="254" name=""/>
            <p:cNvSpPr/>
            <p:nvPr/>
          </p:nvSpPr>
          <p:spPr>
            <a:xfrm rot="5400000">
              <a:off x="6826320" y="2850480"/>
              <a:ext cx="355320" cy="20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694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6944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6200000">
              <a:off x="6834600" y="2849400"/>
              <a:ext cx="355680" cy="20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582"/>
                  </a:moveTo>
                  <a:arcTo wR="10800" hR="10800" stAng="-69440" swAng="546944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582"/>
                  </a:moveTo>
                  <a:arcTo wR="10800" hR="10800" stAng="-69440" swAng="546944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7053120" y="2850480"/>
              <a:ext cx="355320" cy="20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694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6944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6200000">
              <a:off x="7061400" y="2849400"/>
              <a:ext cx="355680" cy="20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98" y="10582"/>
                  </a:moveTo>
                  <a:arcTo wR="10800" hR="10800" stAng="-69440" swAng="546944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98" y="10582"/>
                  </a:moveTo>
                  <a:arcTo wR="10800" hR="10800" stAng="-69440" swAng="546944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2844720" y="3048120"/>
            <a:ext cx="1519560" cy="82044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ve-t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945040" y="3019320"/>
            <a:ext cx="2199240" cy="82044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Ts, e.g. fre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ing EH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813200" y="1660680"/>
            <a:ext cx="220680" cy="393120"/>
            <a:chOff x="4813200" y="1660680"/>
            <a:chExt cx="220680" cy="393120"/>
          </a:xfrm>
        </p:grpSpPr>
        <p:sp>
          <p:nvSpPr>
            <p:cNvPr id="261" name=""/>
            <p:cNvSpPr/>
            <p:nvPr/>
          </p:nvSpPr>
          <p:spPr>
            <a:xfrm flipV="1">
              <a:off x="4813200" y="1660680"/>
              <a:ext cx="220680" cy="39312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4820040" y="1686240"/>
              <a:ext cx="206280" cy="3297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629400" y="2664000"/>
            <a:ext cx="220680" cy="393120"/>
            <a:chOff x="6629400" y="2664000"/>
            <a:chExt cx="220680" cy="393120"/>
          </a:xfrm>
        </p:grpSpPr>
        <p:sp>
          <p:nvSpPr>
            <p:cNvPr id="264" name=""/>
            <p:cNvSpPr/>
            <p:nvPr/>
          </p:nvSpPr>
          <p:spPr>
            <a:xfrm flipV="1">
              <a:off x="6629400" y="2664000"/>
              <a:ext cx="220680" cy="39312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6636240" y="2689560"/>
              <a:ext cx="206280" cy="3297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797280" y="2130480"/>
            <a:ext cx="220680" cy="393120"/>
            <a:chOff x="3797280" y="2130480"/>
            <a:chExt cx="220680" cy="393120"/>
          </a:xfrm>
        </p:grpSpPr>
        <p:sp>
          <p:nvSpPr>
            <p:cNvPr id="267" name=""/>
            <p:cNvSpPr/>
            <p:nvPr/>
          </p:nvSpPr>
          <p:spPr>
            <a:xfrm flipV="1">
              <a:off x="3797280" y="2130480"/>
              <a:ext cx="220680" cy="39312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3804120" y="2156040"/>
              <a:ext cx="206280" cy="3297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71800" cy="22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6348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f course the scheme should…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e only when expected and des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e independently of the type of failure in the breaker (but note prior rules on use of 52a contac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proper application of auxiliary relays (avoid when you can, use only for isolation, and watch pickup and dropout time delay impac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ve test switches arranged to allow safe overall testing of the scheme (testing BF tripping is a risk that some avoi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The scheme should…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ble to operate when the dc source to the failed breaker is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roper application of dc circuits to avoid mixing supply 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ans that failure of the dc to any one of the redundant zone protective relays must not disable BF prot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ways to meet this nee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F operation when dc to zone relay is los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aditional appro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F scheme is associated with the breaker and its control panel (not with adjacent line, bus, transformer zones or relay pan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BF scheme has its own relays and its own separately-fused dc sup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FI comes from multiple adjacent zones by isolated contacts or isolated electronic inputs to avoid mixing dc from those pan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pproach implied in NERC Planning Standards and many regional design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the dc to the BF scheme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µP relays do th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582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BF operation when dc to zone relay is los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w microprocessor relay appro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F scheme is included as a function inside a zone relay (line, bus, transform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BF scheme is dependent on the zone relay and its dc sup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void loss of BF protection when zone relay or its dc fails, at least 2 redundant relays must each have parallel independent BF schemes in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on – loss of zone relay or its dc does not disable BF prot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ing buses and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½ breaker buses, each relay needs 2 independent BF functions and separated breaker current inputs (available in newest relay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ne relays report dc fail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The scheme should…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ze the impact of dc trans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beyond SWC and is a special BF ri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tery grounding problem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ery is grounded at center tap between two monitoring lamps or resistors - battery leads are +/- Vdc/2 with respect to g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09480" y="3429000"/>
            <a:ext cx="4101840" cy="3291840"/>
            <a:chOff x="609480" y="3429000"/>
            <a:chExt cx="4101840" cy="3291840"/>
          </a:xfrm>
        </p:grpSpPr>
        <p:sp>
          <p:nvSpPr>
            <p:cNvPr id="55" name=""/>
            <p:cNvSpPr/>
            <p:nvPr/>
          </p:nvSpPr>
          <p:spPr>
            <a:xfrm>
              <a:off x="609480" y="4165920"/>
              <a:ext cx="57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4680" y="4394520"/>
              <a:ext cx="57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2080" y="4584960"/>
              <a:ext cx="57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9480" y="5423040"/>
              <a:ext cx="57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736200" y="4267080"/>
              <a:ext cx="35568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698040" y="4483080"/>
              <a:ext cx="35568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723600" y="4686120"/>
              <a:ext cx="35568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711000" y="5524560"/>
              <a:ext cx="35568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723600" y="5753160"/>
              <a:ext cx="355680" cy="12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723600" y="5968800"/>
              <a:ext cx="355680" cy="1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9480" y="5664240"/>
              <a:ext cx="57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9480" y="5867640"/>
              <a:ext cx="57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888840" y="4724640"/>
              <a:ext cx="0" cy="69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8840" y="6477120"/>
              <a:ext cx="1803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875880" y="5994360"/>
              <a:ext cx="0" cy="49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888840" y="3632400"/>
              <a:ext cx="0" cy="49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01440" y="3657600"/>
              <a:ext cx="1841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01440" y="5080320"/>
              <a:ext cx="1790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88760" y="4216680"/>
              <a:ext cx="355680" cy="355320"/>
            </a:xfrm>
            <a:prstGeom prst="ellipse">
              <a:avLst/>
            </a:prstGeom>
            <a:solidFill>
              <a:srgbClr val="e88a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76160" y="5562720"/>
              <a:ext cx="355680" cy="355680"/>
            </a:xfrm>
            <a:prstGeom prst="ellipse">
              <a:avLst/>
            </a:prstGeom>
            <a:solidFill>
              <a:srgbClr val="e88a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1866240" y="3670200"/>
              <a:ext cx="12600" cy="57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1866600" y="457200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1841040" y="5892840"/>
              <a:ext cx="12960" cy="57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501640" y="5231880"/>
              <a:ext cx="317520" cy="444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653920" y="5079960"/>
              <a:ext cx="1296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42840" y="3581640"/>
              <a:ext cx="114480" cy="127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28720" y="6400800"/>
              <a:ext cx="114120" cy="127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71440" y="3429000"/>
              <a:ext cx="173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 62 Vd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06560" y="62611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 62 Vd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800600" y="3276720"/>
            <a:ext cx="26906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The scheme should…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 the impact of dc trans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of BFI input wi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dental battery supply lead grounding suddenly shifts ground potential.  Also, other spikes/sur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y BFI input spike decays according to input imped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BFI input responds, BF timing may pick up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al 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using false BF tr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rn secure BFI inputs will completely avoid pickup on Vdc/2, or on Vdc coupled through 1 to 4 u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25960" y="2720880"/>
            <a:ext cx="819360" cy="241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ffcc"/>
                </a:solidFill>
                <a:latin typeface="Arial"/>
              </a:rPr>
              <a:t>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54680" y="2819520"/>
            <a:ext cx="344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83240" y="2819520"/>
            <a:ext cx="34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49120" y="2324160"/>
            <a:ext cx="498600" cy="30204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cc"/>
                </a:solidFill>
                <a:latin typeface="Arial"/>
              </a:rPr>
              <a:t>62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72080" y="2128680"/>
            <a:ext cx="0" cy="1297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22760" y="2786040"/>
            <a:ext cx="120960" cy="79560"/>
          </a:xfrm>
          <a:prstGeom prst="ellipse">
            <a:avLst/>
          </a:prstGeom>
          <a:solidFill>
            <a:srgbClr val="3399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2819520"/>
            <a:ext cx="374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45000" y="2362320"/>
            <a:ext cx="1914120" cy="36324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cc"/>
                </a:solidFill>
                <a:latin typeface="Arial"/>
              </a:rPr>
              <a:t>Long wiring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31520" y="2876400"/>
            <a:ext cx="672120" cy="454680"/>
          </a:xfrm>
          <a:prstGeom prst="rect">
            <a:avLst/>
          </a:prstGeom>
          <a:noFill/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Arial"/>
              </a:rPr>
              <a:t>B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36960" y="2819520"/>
            <a:ext cx="0" cy="206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22760" y="3040200"/>
            <a:ext cx="45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79920" y="3116160"/>
            <a:ext cx="472680" cy="11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3722760" y="3108240"/>
            <a:ext cx="472680" cy="11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48120" y="3122640"/>
            <a:ext cx="0" cy="344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4440" y="3481560"/>
            <a:ext cx="387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40120" y="3530520"/>
            <a:ext cx="258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48120" y="3578400"/>
            <a:ext cx="85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631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Tripping Action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– operate a lockout switch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p all other breakers to isolate the failed breaker; keep trip circuits clo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jacent zone breakers; some of this is redund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trip remote bre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carrier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line grounding switch (pyrotechnic or spring-operated).  Slow clearing, and applies new fault to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of latter two have reclosing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6312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Tripping Actions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–lockout switch continu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 closing of failed breaker and all tripped break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reclosing relay to “lockout” (end of sequence)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ch and alarm the failed-breaker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overt human action before any surrounding breakers can be clo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 the BF state independently of any other overlapping lockouts (e.g. transformer faul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6:28:51Z</dcterms:created>
  <dc:creator>Eric A. Udren</dc:creator>
  <dc:description/>
  <dc:language>en-US</dc:language>
  <cp:lastModifiedBy>Roger Hedding</cp:lastModifiedBy>
  <dcterms:modified xsi:type="dcterms:W3CDTF">2010-06-09T17:11:05Z</dcterms:modified>
  <cp:revision>32</cp:revision>
  <dc:subject/>
  <dc:title>BF Tutorial - Part 4</dc:title>
</cp:coreProperties>
</file>