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9718-D6BD-47F5-AA94-07A247518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D7E7-A19A-4E38-9453-C4DBFA27E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4FED-DDA0-44DE-852A-7C0AE9AD9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832A-B21B-4EB0-9B6D-A49C1768F3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C23A-1549-4AD1-8CF3-485AEACCA7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A1DE-F17B-4B73-BBFC-8F3DCCEA48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356A4-167B-4B0D-BD10-3F0FBC431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9DCE-19C7-4820-B676-092AF3F58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D81D-8D53-403E-966A-7ABD8DC0E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15FF9-CA7B-4553-BE2F-B97856632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8258-C0B4-43A0-9446-5D1C31455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DD20-6DFB-45CA-9D06-0F2F443BC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DD66-71A1-4595-BD5E-4A379769C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6172200"/>
            <a:ext cx="70866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5562720"/>
            <a:ext cx="119700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F Communications</a:t>
            </a:r>
            <a:br>
              <a:rPr sz="4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tandard Section 10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er Failur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 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380880"/>
            <a:ext cx="5334120" cy="6019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562720" y="844200"/>
            <a:ext cx="3581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F Tripping via GOOSE messag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04920" y="457200"/>
          <a:ext cx="4840200" cy="56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57200"/>
                    <a:ext cx="48402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CA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®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/IEC 61850 GOOSE (or GSSE) Messaging for LAN Contro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ed consistency could be impacted by Ethernet collisions and retries at a busy ti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an be minimized by use of switches rather than hu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Ds prioritize and filter their message trans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ew &amp; valu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f periodic GOOSE update is not received by every subscribing IED, each can alarm the fail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f monitoring process can eliminate most maintenance testing.  Wires cannot do thi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 last – safe and continuous monitoring of the whole BF scheme including the tripping ch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ripping Remote Line Breake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ing switches (pyrotechnic, SOGS) – an ugly old solution for remote tripping, in widespread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– 20 added cycles clearing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s another fault to the system – can’t help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block reclos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blocking carrier – remote end trips, but will it recl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irect Transfer Trip (DTT) channel to trip the remote breaker for a BF after an adjacent-zone fault – fast and effective,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arrier sets and voiceband data sets (tone replacements) for line pilot protection have DTT capability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icated fiber pilot channels have DTT cap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489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F After DTT from Remote En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TT is received for primary protection (line protection, line reactor isolation, remote transformer, etc.), initiate B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TT is received for a remote BF backup trip, d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itiate BF (no cascaded BF prote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TT initiates BF, be ever so careful about testing or working on channel equi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for remote sites – allow reclosing when DTT channel resets, for easy resto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DTT Securit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SK carrier, FSK tones, or continuous data transmission to constantly monitor channel integrity (it is almost never us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igh security, dual FSK channels have been used with tripping frequency shifts in opposite directions (frequency translation prot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sets can be expected to be much more sec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urrent or directional overcurrent supervision of DTT improves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nified protection, control, and automation LA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4920" y="1371600"/>
            <a:ext cx="8547120" cy="4732920"/>
            <a:chOff x="304920" y="1371600"/>
            <a:chExt cx="8547120" cy="47329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1301760" y="4281480"/>
              <a:ext cx="822600" cy="372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" name=""/>
            <p:cNvSpPr/>
            <p:nvPr/>
          </p:nvSpPr>
          <p:spPr>
            <a:xfrm>
              <a:off x="1006560" y="4006800"/>
              <a:ext cx="37296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752840" y="4006800"/>
              <a:ext cx="1238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938600" y="4006800"/>
              <a:ext cx="56016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54240" y="4668840"/>
              <a:ext cx="18720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441440" y="4668840"/>
              <a:ext cx="12384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2840" y="4668840"/>
              <a:ext cx="6192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38600" y="4668840"/>
              <a:ext cx="18576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4097520" y="4281480"/>
              <a:ext cx="824040" cy="372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" name=""/>
            <p:cNvSpPr/>
            <p:nvPr/>
          </p:nvSpPr>
          <p:spPr>
            <a:xfrm>
              <a:off x="3803760" y="4006800"/>
              <a:ext cx="37296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48240" y="4006800"/>
              <a:ext cx="1238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734000" y="4006800"/>
              <a:ext cx="55872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051440" y="4668840"/>
              <a:ext cx="18576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4237200" y="4668840"/>
              <a:ext cx="12528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48240" y="4668840"/>
              <a:ext cx="6192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34000" y="4668840"/>
              <a:ext cx="18756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7018560" y="4281480"/>
              <a:ext cx="822240" cy="372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9" name=""/>
            <p:cNvSpPr/>
            <p:nvPr/>
          </p:nvSpPr>
          <p:spPr>
            <a:xfrm>
              <a:off x="6723360" y="4006800"/>
              <a:ext cx="37116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470720" y="4006800"/>
              <a:ext cx="12204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653240" y="4006800"/>
              <a:ext cx="561960" cy="26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970320" y="4668840"/>
              <a:ext cx="18756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158240" y="4668840"/>
              <a:ext cx="12384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1080" y="4668840"/>
              <a:ext cx="5868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53600" y="4668840"/>
              <a:ext cx="187200" cy="26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3988080" y="2476440"/>
              <a:ext cx="869760" cy="39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7" name=""/>
            <p:cNvSpPr/>
            <p:nvPr/>
          </p:nvSpPr>
          <p:spPr>
            <a:xfrm>
              <a:off x="4797720" y="2884320"/>
              <a:ext cx="0" cy="13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7720" y="3016080"/>
              <a:ext cx="136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34000" y="3016080"/>
              <a:ext cx="0" cy="13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64280" y="4403520"/>
              <a:ext cx="88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1560" y="4403520"/>
              <a:ext cx="80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29400" y="3081240"/>
              <a:ext cx="0" cy="132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34000" y="3081240"/>
              <a:ext cx="995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34000" y="288432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24360" y="4403520"/>
              <a:ext cx="80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64280" y="3016080"/>
              <a:ext cx="0" cy="1387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34000" y="3016080"/>
              <a:ext cx="111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51440" y="2884320"/>
              <a:ext cx="0" cy="13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16400" y="2085840"/>
              <a:ext cx="46080" cy="4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1600" y="2473200"/>
              <a:ext cx="15447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00 Mbit/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thernet 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7440" y="4581360"/>
              <a:ext cx="15735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cess 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92720" y="2420640"/>
              <a:ext cx="49536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5"/>
            <a:stretch/>
          </p:blipFill>
          <p:spPr>
            <a:xfrm>
              <a:off x="6164280" y="2014200"/>
              <a:ext cx="870120" cy="392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4" name=""/>
            <p:cNvSpPr/>
            <p:nvPr/>
          </p:nvSpPr>
          <p:spPr>
            <a:xfrm flipV="1">
              <a:off x="4857840" y="2288880"/>
              <a:ext cx="1306440" cy="19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59640" y="1562040"/>
              <a:ext cx="0" cy="46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76720" y="2141280"/>
              <a:ext cx="10677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04120" y="1546200"/>
              <a:ext cx="15721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to EMS W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16240" y="1819080"/>
              <a:ext cx="1168560" cy="946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Operator Interface Comp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8560" y="1371600"/>
              <a:ext cx="1245960" cy="733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bstation Data Bas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60720" y="3417840"/>
              <a:ext cx="662040" cy="631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R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25600" y="3417840"/>
              <a:ext cx="662040" cy="631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R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0840" y="3417840"/>
              <a:ext cx="661680" cy="631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81600" y="3417840"/>
              <a:ext cx="662040" cy="63144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R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46840" y="3417840"/>
              <a:ext cx="661680" cy="63144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R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1720" y="3417840"/>
              <a:ext cx="660240" cy="63144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48640" y="3417840"/>
              <a:ext cx="662040" cy="63144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R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13880" y="3417840"/>
              <a:ext cx="661680" cy="63144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Rel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78760" y="3417840"/>
              <a:ext cx="662040" cy="63144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I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75320" y="3054240"/>
              <a:ext cx="151272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Station 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96240" y="4510080"/>
              <a:ext cx="95580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Process B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4920" y="4944960"/>
              <a:ext cx="1030320" cy="946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Line Zone Intelligent Power Appa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98880" y="4944960"/>
              <a:ext cx="1030320" cy="9464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Bus Zone Intelligent Power Appa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65920" y="4944960"/>
              <a:ext cx="1251000" cy="115956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</a:rPr>
                <a:t>Transformer Zone Intelligent Power Appar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4251240"/>
              <a:ext cx="103500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00 Mbit/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thernet 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6040" y="5090760"/>
              <a:ext cx="1544760" cy="6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spAutoFit/>
            </a:bodyPr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00 Mbit/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66680" indent="-166680">
                <a:lnSpc>
                  <a:spcPct val="90000"/>
                </a:lnSpc>
                <a:tabLst>
                  <a:tab algn="l" pos="0"/>
                  <a:tab algn="l" pos="663480"/>
                  <a:tab algn="l" pos="1327320"/>
                  <a:tab algn="l" pos="1990800"/>
                  <a:tab algn="l" pos="2654280"/>
                  <a:tab algn="l" pos="3317760"/>
                  <a:tab algn="l" pos="3981600"/>
                  <a:tab algn="l" pos="4645080"/>
                  <a:tab algn="l" pos="5308560"/>
                  <a:tab algn="l" pos="5972040"/>
                  <a:tab algn="l" pos="6635880"/>
                  <a:tab algn="l" pos="7299360"/>
                  <a:tab algn="l" pos="7962840"/>
                  <a:tab algn="l" pos="8626320"/>
                  <a:tab algn="l" pos="9290160"/>
                  <a:tab algn="l" pos="9953640"/>
                  <a:tab algn="l" pos="1061712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Ethernet Switch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954320" y="4654080"/>
              <a:ext cx="514440" cy="50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6351840" y="4581360"/>
              <a:ext cx="514080" cy="58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087280" y="4654440"/>
              <a:ext cx="36828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32400" y="4727520"/>
              <a:ext cx="36648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936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Use High Speed LAN for BF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cal Ethernet local area network (LAN) with IEC 61850 GOOSE messaging replaces masses of dedicated wi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send BFI from one zone relay to other BF relays, or zone relays with embedded BF functions, over the shared 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send BF Trips from BF relay to breaker control relays over shared 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send lockout (block close; cancel reclosing) commands to breaker control rel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CA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®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/IEC 61850 GOOSE (or GSSE) Messaging for LAN Contro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ec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en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st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lay or IED can send a sequence of control or status point messages to replace control signals on a dedicated w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a single message to request remote 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to continuously send intended state from transmitting IED – like a contact that picks up and drops out at critical mo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he receiving IED was turned off when the first trip message was sent and is turned on later, it will be able to get a later update on the status it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UCA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®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/IEC 61850 GOOSE (or GSSE) Messaging for LAN Contro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SE message comprises an array of status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ource-identified array is sent periodically over the LAN, at a user-set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end GOOSE instantly if any bit changes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 through repeated, unacknowledged mess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ding IED can “publish” the identity of available status bits, that can contain contro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IED can “subscribe” to this message – many connections can be established with multicast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new settings to define what used to be wired conn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 GOOSE” proposed to preconfigure some of the connections that would normally be needed when IEDs are commissio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76080"/>
            <a:ext cx="7772400" cy="5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BFI via GOOSE Messag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447920"/>
            <a:ext cx="5257800" cy="495288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09960" y="20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4953240" cy="489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6:28:51Z</dcterms:created>
  <dc:creator>Eric A. Udren</dc:creator>
  <dc:description/>
  <dc:language>en-US</dc:language>
  <cp:lastModifiedBy>Roger Hedding</cp:lastModifiedBy>
  <dcterms:modified xsi:type="dcterms:W3CDTF">2010-06-09T17:13:41Z</dcterms:modified>
  <cp:revision>39</cp:revision>
  <dc:subject/>
  <dc:title>Slide 1</dc:title>
</cp:coreProperties>
</file>