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2E11-74A9-48EC-AA8A-E0C1294EA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BB8A-1B8F-46FA-8DEF-FF86057D1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1B2F-54D1-4B44-A015-16B2063DF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9A13-CFA6-4DCC-8A9D-5160387AD5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499E-B448-4816-85F8-A773313587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5A1E2-09AB-4BDA-9B77-56EA51D6D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82B4-854E-4E3C-86EF-2D397FFAB9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BCE6-E285-42A7-9182-ACD6F84CA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0587-BABC-4A9C-8328-2B1EE2B99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2379-712E-465C-BE29-998211585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3B8F2-A21D-4E0F-83EA-A525F3429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B721D-7AB4-490E-B697-341C1E4C0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A521-BB95-478C-9DE7-B846D01E3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6172200"/>
            <a:ext cx="70866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5562720"/>
            <a:ext cx="119700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reaker Failure Schem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er Failur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 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reaker Failure Tim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greater than the Breaker interrupt time plus drop out of 50BF current Det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 accounts for maximum operat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fault clearing is less than transient stabilit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otal Clearing Tim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 transient Stability Time – 10 – 30 cycles ( 4 cycles 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 time for damage to major equipment may occur – greater than 30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 time damage to industrial processes may occur – greater than 30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ritical Clearing Time for Stability Factor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rity of 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ading 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s of Gen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of 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Fault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severe must be removed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phase faults must be removed faster than single line to ground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ime Coordinatio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need to coordinate with external zones of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F Scheme must provide lockout to prevent rec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Retri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 the breaker one last chance to clear the fault before the BF scheme ope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use separate trip coil on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or may not have tim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alarm maintenance knows tripped on retr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reaker Failure Re-Tri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5800" y="2476440"/>
            <a:ext cx="777240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limination of 50 Rese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ow reset time for electromechanical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e to dc  offset some microprocessor relays may slow re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r times out before look for 50BF pi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limination of 50BF Reset Tim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800" y="2792520"/>
            <a:ext cx="777240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Fault Clearing Timing Char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10080" cy="48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Schem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logy dictates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gle Phase Tr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al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ical Clear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function r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of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trol Tim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s how long you wait for 50BF before scheme re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rdinate with Synch Check reclosing tim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ddition of Control tim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777240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wo Step Tim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 to clear three phase faults faster than other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inguish between single phase and multi phas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 timer for single phase faults slower than timer for multi phas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wo Step Time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2398680"/>
            <a:ext cx="777240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Seal I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Breaker Failure Initiate contacts don’t stay mainta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utput for seal in input as long as current detector remains picked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reaker Failure Seal-I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3209760"/>
            <a:ext cx="7772400" cy="16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9320" y="243828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Minimum Current Schem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re current is too low for current detector 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Minimal Fault Curren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3365640"/>
            <a:ext cx="777240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Dual Timer with 52aa and 50BF Reset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2298600"/>
            <a:ext cx="7772400" cy="34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riple Timer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62280" y="1981080"/>
            <a:ext cx="54194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reaker Failure Schem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mination of 50BF Rese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al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step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er Failure Seal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Single Phase Retrip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9343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reaker Failure Timer Bypas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76280" y="1981080"/>
            <a:ext cx="63896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Multiple Scheme within Relay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36760" y="1981080"/>
            <a:ext cx="6270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Questions 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reaker Failure Scheme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iple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le Phase with Re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er Failure with By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e Scheme Breaker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asic Breaker Failure Schem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85800" y="3367080"/>
            <a:ext cx="777240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50 BF – Current Detecto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to detect most sensitive 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sible above load 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nger of operation during trip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Opening re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condition resistor inserted but main contacts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50 BF Current Detector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 Over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 all ground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high enough so not delayed by dc current decay in  ct circuit following a breaker operation and ct sat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Delayed dropou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 that operate on ac and dc magn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ments that operate on dI/dt if it detects di/dt of decaying d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iming Char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063880"/>
            <a:ext cx="91440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6:28:51Z</dcterms:created>
  <dc:creator>RAHEDDIN</dc:creator>
  <dc:description/>
  <dc:language>en-US</dc:language>
  <cp:lastModifiedBy>Roger Hedding</cp:lastModifiedBy>
  <dcterms:modified xsi:type="dcterms:W3CDTF">2010-06-15T00:05:51Z</dcterms:modified>
  <cp:revision>17</cp:revision>
  <dc:subject/>
  <dc:title>Slide 1</dc:title>
</cp:coreProperties>
</file>