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7B21A-CAB4-438A-A390-58F71AE54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995A-1C67-4DA7-B1C4-2BF0238EA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4DD6-C5F5-4C29-8022-DEDABDAEC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A0580-74F3-40A6-B48A-359BF32E9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4256-C266-42C8-A9AE-9DBB555714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238E-97C8-419A-88FA-B23CBCDEA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C69E-9FCF-45E8-A9EB-595956561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D026-ED3A-4F1A-9089-F5E2B35E1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D32E-C279-4F62-8CF4-A4E6105A1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0A5B-9151-4DD3-B9D1-7FBDDEF73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5C42-C161-48DD-BA2D-A140FBD21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3339-4645-4070-AC1F-4547718567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CE5-287F-4920-BF11-922F71C21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6172200"/>
            <a:ext cx="70866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5562720"/>
            <a:ext cx="119700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pening Comment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r Failur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 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Last Publication on Breaker 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Failure Protection by PSRC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IEEE PSRC Report, “Summary Update of Practices on Breaker Failure Prot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EEE Transaction Power Apparatus and System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ol. PAS-101, No. 3, pp 555-563, March 1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8002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Why a Guide 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have changed in 2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Engineers need guid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r Failure Function being incorporated in multifunction rel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002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Origi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Power System Relay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tion Protection Sub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2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0 people on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K2 Member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620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er Hedding,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.And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 Apost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hn Appley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y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Bar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n Bea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 Behre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obert Ber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rtin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stav Brun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 Buan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eky Bukh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5620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vind Chaudhary,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on Ch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y Cra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y Cre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ndy Cu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bert N. Darl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ul D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lt El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Em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n Ferr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lly Gard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ny Giul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Gre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K2 Member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36720" y="1219320"/>
            <a:ext cx="4178160" cy="36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win Hassenwink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 Horow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y Ho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hamed Ibra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b Jack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ld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Ke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im K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houkat K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ke Klo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ry Kob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 Lani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ry Law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 L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hid Mad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ter McCann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ke McDon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n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28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tap Mys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kesh Nag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e 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ssell Patt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k Plump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mo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 Reck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 Sevc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les Suf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Joe Uchiy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hib Us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n 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mes What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ger Whitt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ip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y Yo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 Yo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working group will investigate issues pertaining to breaker failure protection which will inclu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er failure mechanis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ult det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er failure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 of bus configu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 of multifunction microprocessor rel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ffect of modern breaker control sche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pare a guide covering the application of breaker failure protection to power circuit break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80028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utorial Schedul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00 PM  Introdu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30   Breaker Failure Scena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00  Breaker Failure Sche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45 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00  Design Consid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:00  Communic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:30 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:00   Adj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080" y="6291360"/>
            <a:ext cx="2356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act of Distributed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SRC D3.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21:37:51Z</dcterms:created>
  <dc:creator>RAHEDDIN</dc:creator>
  <dc:description/>
  <dc:language>en-US</dc:language>
  <cp:lastModifiedBy>Roger Hedding</cp:lastModifiedBy>
  <dcterms:modified xsi:type="dcterms:W3CDTF">2010-06-15T00:08:23Z</dcterms:modified>
  <cp:revision>9</cp:revision>
  <dc:subject/>
  <dc:title>Opening Comments</dc:title>
</cp:coreProperties>
</file>